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FA9-8FB1-4F19-A3D7-F2783347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46D-10BD-4C63-B521-40C1789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A6C-2338-4CF7-93B8-8C1B9495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0F8-6C26-48BF-812B-FF00E8B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207-6843-4090-9272-47E5F6A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80B-6F15-4C08-A192-28C69CC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E10-3176-495C-9968-29F0DE64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C40-0FFC-4E16-B890-5CD4722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10B-65B9-4A9F-AD74-607638E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1F7-C545-4EA0-9BF0-577F006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AE8-F7B4-42A7-B8C4-F9B498D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044-090F-45DA-8F62-DF4CAD0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BEAB-A46E-4DFE-B853-898330080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395280" y="213372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ИНОКИСЕЛИНЕ И БИОАКТИВНИ ПЕПТИДИ. ПРОБИОТИЦИ, ПРЕБИОТИЦИ И СИМБИОТИЦИ. ЕНЗИМИ И КОЕНЗИМИ. ЕСЕНЦИЈАЛНЕ МАСНЕ КИСЕЛИНЕ. БИЉНИ ХОРМОНИ. ФИТОСТЕРОЛИ И ФИТОСТАН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15" descr=""/>
          <p:cNvPicPr/>
          <p:nvPr/>
        </p:nvPicPr>
        <p:blipFill>
          <a:blip r:embed="rId1"/>
          <a:stretch/>
        </p:blipFill>
        <p:spPr>
          <a:xfrm>
            <a:off x="8096400" y="1176480"/>
            <a:ext cx="749160" cy="44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езултат слика за logo fakulteta medicinskih nauka"/>
          <p:cNvPicPr/>
          <p:nvPr/>
        </p:nvPicPr>
        <p:blipFill>
          <a:blip r:embed="rId2"/>
          <a:stretch/>
        </p:blipFill>
        <p:spPr>
          <a:xfrm>
            <a:off x="7380360" y="9360"/>
            <a:ext cx="176364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Резултат слика за logo univerziteta u kragujevcu"/>
          <p:cNvPicPr/>
          <p:nvPr/>
        </p:nvPicPr>
        <p:blipFill>
          <a:blip r:embed="rId3"/>
          <a:stretch/>
        </p:blipFill>
        <p:spPr>
          <a:xfrm>
            <a:off x="738036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587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ц. др Душан Љ. Том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: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9-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4"/>
          <p:cNvSpPr/>
          <p:nvPr/>
        </p:nvSpPr>
        <p:spPr>
          <a:xfrm>
            <a:off x="468360" y="155736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екреције м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ецифична стимулација иму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ција имуних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фагоцитне активности макроф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твар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и Ig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ја пропустљивости цревне бариј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14"/>
          <p:cNvSpPr/>
          <p:nvPr/>
        </p:nvSpPr>
        <p:spPr>
          <a:xfrm>
            <a:off x="468360" y="1916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termophi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fidobacteria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Ц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boular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4"/>
          <p:cNvSpPr/>
          <p:nvPr/>
        </p:nvSpPr>
        <p:spPr>
          <a:xfrm>
            <a:off x="468360" y="148428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иотских кул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секв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култив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и понашање коло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 да пробиотски организми имају одређен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тепен резистенције на желудачну и жуч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адхеренције за цревну м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редукције патогених сојева бак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1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4"/>
          <p:cNvSpPr/>
          <p:nvPr/>
        </p:nvSpPr>
        <p:spPr>
          <a:xfrm>
            <a:off x="468360" y="191628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ада нема доказа да употреба пробиотика смањује риз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д настанка Кронове болести, хроничног иритабилног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лона, малигних болести дебелог црева, бактеријских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љивичних инфекција генитоуринарног систе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који садрже пробиотске микроорганизме →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4"/>
          <p:cNvSpPr/>
          <p:nvPr/>
        </p:nvSpPr>
        <p:spPr>
          <a:xfrm>
            <a:off x="468360" y="1557360"/>
            <a:ext cx="8351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иотици су састојци хране који не подлежу проце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игестије и апсорпције, већ подлежу процесу ферментациј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 дебелом цре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ју позитиван учинак на здравље тако ш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лективно стимулишу раст активност једне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граниченог броја бактерија које живе у дебелом ц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4"/>
          <p:cNvSpPr/>
          <p:nvPr/>
        </p:nvSpPr>
        <p:spPr>
          <a:xfrm>
            <a:off x="468360" y="1557360"/>
            <a:ext cx="8351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иотици побољшавају састав цревне микрофлор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бољшавају апсорпцију минерала, повећавају енергет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мет, унапређују интестиналне функције, стабилиш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ревну баријер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пребиотика која се налази на тржишту 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лигосахариди и недигестибилни полисахар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проучени: фруктоолигосахариди, инулин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галактоолигосахар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4"/>
          <p:cNvSpPr/>
          <p:nvPr/>
        </p:nvSpPr>
        <p:spPr>
          <a:xfrm>
            <a:off x="324000" y="1557360"/>
            <a:ext cx="84960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биотици су производи који садрже пробиотике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ебио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пребиотика пробиотику омогућава дуж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пстанак пробиотика у дигестивном тракту 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лакшан приступ епит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14"/>
          <p:cNvSpPr/>
          <p:nvPr/>
        </p:nvSpPr>
        <p:spPr>
          <a:xfrm>
            <a:off x="468360" y="1557360"/>
            <a:ext cx="83516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сир, вино, сирће и поједини месни производи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изводи добијени употребом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у хуманој 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о производи људски организам а део се обезбеђуј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з хране. Употреба сумплемената који садрже коензим 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    </a:t>
            </a:r>
            <a:br>
              <a:rPr sz="2400"/>
            </a:b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широко распрострањ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14"/>
          <p:cNvSpPr/>
          <p:nvPr/>
        </p:nvSpPr>
        <p:spPr>
          <a:xfrm>
            <a:off x="468360" y="1916280"/>
            <a:ext cx="8351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препарата ензима и ко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ni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алактозид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милаза, лактаза, лип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aromyces cerevisia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верт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и папаје и анан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14"/>
          <p:cNvSpPr/>
          <p:nvPr/>
        </p:nvSpPr>
        <p:spPr>
          <a:xfrm>
            <a:off x="468360" y="1557360"/>
            <a:ext cx="8351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масне киселине су полинезасићене мас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иселине које људски организам не може да ствара јер 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седује потребне ензиме који би деловали на засићене вез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змеђу угљеникових атома масних киселина које се налаз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 Ω3 и Ω6 полож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6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ол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хидонска 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3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-линоленска кисе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24"/>
          <p:cNvSpPr/>
          <p:nvPr/>
        </p:nvSpPr>
        <p:spPr>
          <a:xfrm>
            <a:off x="468360" y="252252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ЈА ЗА ХРАНУ И ПОЉОПРИВРЕДУ УЈЕДИЊЕНИХ Н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иоактивни састојци, контаминенти и прехрамбени адити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СВЕТСКА ЗДРАВСТВЕНА ОРГАНИЗ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есенцијални састојци намирница биљног, животињског и синтетског порекла чије уношење није неопход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4"/>
          <p:cNvSpPr/>
          <p:nvPr/>
        </p:nvSpPr>
        <p:spPr>
          <a:xfrm>
            <a:off x="468360" y="1557360"/>
            <a:ext cx="8351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хидонск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 се синтетише а делом уноси хр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урсор је еикосаноида и ткивних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сањем настају простациклини који делу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азодилататорно и умањују склоност тромбоцита 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грег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рахидонске киселине синтетише се цитохром Р450 кој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ествује у биотрансформацији великог броја ксеноби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4"/>
          <p:cNvSpPr/>
          <p:nvPr/>
        </p:nvSpPr>
        <p:spPr>
          <a:xfrm>
            <a:off x="179280" y="1981080"/>
            <a:ext cx="8785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телу из Ω3 α-линоленске киселине елонгациј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 могу синтетисати еикозапентаенске (С20:5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окозапентаенске (С22:5) и докозахексаенс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иселине (С22: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 полинезасићених масних киселина у количини кој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евазилази толеришући дневни унос → повећа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ероксидација липида, продужено време крварења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"/>
          <p:cNvSpPr/>
          <p:nvPr/>
        </p:nvSpPr>
        <p:spPr>
          <a:xfrm>
            <a:off x="179280" y="1484280"/>
            <a:ext cx="878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представљају медијаторе у прено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формације између спољашње средине и ћел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су у веома ниским концентрацијама и има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пецифични физиолошки ефе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ће зависи од баланса биљних хормона/регулатора раст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њиховог истовременог или сукцесивног деловања у дат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к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14"/>
          <p:cNvSpPr/>
          <p:nvPr/>
        </p:nvSpPr>
        <p:spPr>
          <a:xfrm>
            <a:off x="179280" y="1413000"/>
            <a:ext cx="878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са стимулативним деловањ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сини – раст и издуживање биљ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кинини – регулација ћелијских де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релин – издуживање интактних биљ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хормони са инхибиторним деловањ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цисинска киселина и сродна једињења – хормон стре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су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 – саздевање пло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Group 64" descr=""/>
          <p:cNvPicPr/>
          <p:nvPr/>
        </p:nvPicPr>
        <p:blipFill>
          <a:blip r:embed="rId1"/>
          <a:stretch/>
        </p:blipFill>
        <p:spPr>
          <a:xfrm>
            <a:off x="3524400" y="171360"/>
            <a:ext cx="5497200" cy="9018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4"/>
          <p:cNvSpPr/>
          <p:nvPr/>
        </p:nvSpPr>
        <p:spPr>
          <a:xfrm>
            <a:off x="179280" y="112536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група једињења која се налазе искључиво у биљк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оидне структуре (од холестерола се разликују по структу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очног лан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едставн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стер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стан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естер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естан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стеро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сикастер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Group 64" descr=""/>
          <p:cNvPicPr/>
          <p:nvPr/>
        </p:nvPicPr>
        <p:blipFill>
          <a:blip r:embed="rId1"/>
          <a:stretch/>
        </p:blipFill>
        <p:spPr>
          <a:xfrm>
            <a:off x="3524400" y="171360"/>
            <a:ext cx="5497200" cy="9018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4"/>
          <p:cNvSpPr/>
          <p:nvPr/>
        </p:nvSpPr>
        <p:spPr>
          <a:xfrm>
            <a:off x="179280" y="1484280"/>
            <a:ext cx="8785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стероли се могу изоловати из биљних уља (сојино уљ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ље репице, сунцокретово уље, кукурузно уље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изацијом фитостерола добијају се фитостан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стероли и фитостаноли, у слободном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естерификованом облику, додају се храни због њихов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војстава како би смањили апсорпцију холестерола у цре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2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14"/>
          <p:cNvSpPr/>
          <p:nvPr/>
        </p:nvSpPr>
        <p:spPr>
          <a:xfrm>
            <a:off x="179280" y="1484280"/>
            <a:ext cx="8785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ПРИМАРНОГ МЕТАБО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имарним метаболизмом биљака, гљива и фотосинтет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ктивних алги које се користе у људској исхрани, сматрају с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цеси фотосинтезе и касније трансформације настал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лукозе до полисахарида и формирања аминокиселина д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ептида и масних киселина до лип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вна једињења → раст, развој, функционисањ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епродукција живих 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14"/>
          <p:cNvSpPr/>
          <p:nvPr/>
        </p:nvSpPr>
        <p:spPr>
          <a:xfrm>
            <a:off x="179280" y="98100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и проте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розелена алга спирулина (метионин, цистеин, ли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гљива (есенцијалне аминокиселине - лизин, леу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један биљни извор не садржи све есенцијалне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амино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лук (глутаминска и аспарагинска киселина, сер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ланин, глицин, валин, леуцин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а – замена за протеине анималног порекла (одсуств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етио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4"/>
          <p:cNvSpPr/>
          <p:nvPr/>
        </p:nvSpPr>
        <p:spPr>
          <a:xfrm>
            <a:off x="179280" y="98100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и су угљени хидрати присутни у гљив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 у биљкама - глукоза, фруктоза (воће), скроб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плод житарица, кртоле биљака - кромпи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лук (фрукт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и (семе лана, дуње и боквице, бели слез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4"/>
          <p:cNvSpPr/>
          <p:nvPr/>
        </p:nvSpPr>
        <p:spPr>
          <a:xfrm>
            <a:off x="179280" y="981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е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пља – редак извор γ-линоле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ан однос ω-3 и ω-6 масних киселина је 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: семе лана, маслиново, сусамово, палмино у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4"/>
          <p:cNvSpPr/>
          <p:nvPr/>
        </p:nvSpPr>
        <p:spPr>
          <a:xfrm>
            <a:off x="395280" y="2421000"/>
            <a:ext cx="81360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ОНАЛНА ХР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а комисија у сарадњи са Генералним директоратом за научно-истраживачку делатност за област 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која има повољан утицај на једну или више физиолошких функција битних за побољшање здравља и/или смањење ризика за развој болести који се не може постићи само адекватним уносом свих потребних нутријена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14"/>
          <p:cNvSpPr/>
          <p:nvPr/>
        </p:nvSpPr>
        <p:spPr>
          <a:xfrm>
            <a:off x="179280" y="126828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метаболизам је повезан са катаболизмом и/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рансформацијом молекула угљених хидрата, аминокисели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ли масних кисе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 једињења се дефинишу као секундарни метаболити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еома су разноврсне хемијске природе. Највећи број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екундарних метаболита показује и шири спекта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армаколошких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екундарног метаболизма се само донекле могу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генерализовати, јер се не одвијају истим механизмом у сви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иљк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4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4"/>
          <p:cNvSpPr/>
          <p:nvPr/>
        </p:nvSpPr>
        <p:spPr>
          <a:xfrm>
            <a:off x="179280" y="1125360"/>
            <a:ext cx="87854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 спектар једињења чија је заједничка карактеристика 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мају ароматични прстен који као супституенте има једну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ише хидроксилних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ећерима граде ГЛИКОЗ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у биљној ћелији у облику гликозида лоцирани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итоплазми и вакуолама, а слободни (у облику агликона) на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вршини биљних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ују у хин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5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4"/>
          <p:cNvSpPr/>
          <p:nvPr/>
        </p:nvSpPr>
        <p:spPr>
          <a:xfrm>
            <a:off x="179280" y="105264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фен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и фено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ноли, фенолне киселине, кумарин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нафтохинони, флавоноид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нани и неолигна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мерна фенолна једиње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флавонои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меризовани флаво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 фено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нини, лигн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на једињења су од великог значаја и као ћелијс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тпорни материј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фенолна једињења са аспекта терапиј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ункционалне хране су флавоноиди (изофлавони, антоција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6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Box 14"/>
          <p:cNvSpPr/>
          <p:nvPr/>
        </p:nvSpPr>
        <p:spPr>
          <a:xfrm>
            <a:off x="179280" y="981000"/>
            <a:ext cx="8785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, у контакту са водом да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билну п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ом се ослобађа шећер и агликонска компонента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апог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у биљкама огледа се у заштити од различит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актеријских и фунгал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ујуће делују на слузницу респираторног систем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желу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сапонина: јагорчевина, бршљан, дивљи кестен, н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7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4"/>
          <p:cNvSpPr/>
          <p:nvPr/>
        </p:nvSpPr>
        <p:spPr>
          <a:xfrm>
            <a:off x="179280" y="1249200"/>
            <a:ext cx="87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рск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вине липофилних, течних, испарљивих компон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 примена: зачи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но, рузмарин, ким, ванил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ци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родни адитиви, коригенси укуса и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4"/>
          <p:cNvSpPr/>
          <p:nvPr/>
        </p:nvSpPr>
        <p:spPr>
          <a:xfrm>
            <a:off x="179280" y="981000"/>
            <a:ext cx="8964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рск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ерпени (ментол и ментон из нане, тимол из тимиј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квитерпени (бисаболол из камил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фатичне и ароматичне испарљиве компонен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рива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ензоеве киселине-ванилин и метил салицил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адрже аз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лифатични ам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адрже сумп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ргански дисулфиди белог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црног лу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3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Box 14"/>
          <p:cNvSpPr/>
          <p:nvPr/>
        </p:nvSpPr>
        <p:spPr>
          <a:xfrm>
            <a:off x="179280" y="1268280"/>
            <a:ext cx="8785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ерпенски гликозиди, специфичан горак у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шују лучење пљувачке, гастричних сокова, варење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псорпцију хранљивих ма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иридоида: линцура, кич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14"/>
          <p:cNvSpPr/>
          <p:nvPr/>
        </p:nvSpPr>
        <p:spPr>
          <a:xfrm>
            <a:off x="179280" y="1314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 органска једињења више или мање базног к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алкалоиди, псеудоалкал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о јака физиолошка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, леталан исход (колхицин, аконитин, тубокура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Box 14"/>
          <p:cNvSpPr/>
          <p:nvPr/>
        </p:nvSpPr>
        <p:spPr>
          <a:xfrm>
            <a:off x="179280" y="131436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нични гликоз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а једињења, леталан и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тероид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 које садрже ову групу једињења (пустикара, ђурђева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лијандер, гороцвет, куку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Group 64" descr=""/>
          <p:cNvPicPr/>
          <p:nvPr/>
        </p:nvPicPr>
        <p:blipFill>
          <a:blip r:embed="rId1"/>
          <a:stretch/>
        </p:blipFill>
        <p:spPr>
          <a:xfrm>
            <a:off x="3548160" y="128520"/>
            <a:ext cx="5473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14"/>
          <p:cNvSpPr/>
          <p:nvPr/>
        </p:nvSpPr>
        <p:spPr>
          <a:xfrm>
            <a:off x="179280" y="816120"/>
            <a:ext cx="878544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стоји добра и лоша намирница, већ добар и лош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начин исхране (СЗО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произвођач жели да одређени производ, који садрж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иоактивни састојак категорише као намирницу, мора уважи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чињеницу да је производ намењен општој популацији и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собама у популацији са посебним потреб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да за производ који садржи биоактивни састоја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тоје  научно-засновани докази да доприноси превенциј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или лечењу одређене болести, такав производ се категори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о лек (прави лекови, биљни препарати, ензимски препара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хомеопатски и традиционални леков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7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4"/>
          <p:cNvSpPr/>
          <p:nvPr/>
        </p:nvSpPr>
        <p:spPr>
          <a:xfrm>
            <a:off x="468360" y="1989000"/>
            <a:ext cx="813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и биоактивни пепт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ци и пребиотиц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и и коенз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масне кисел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састојци биља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43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Box 14"/>
          <p:cNvSpPr/>
          <p:nvPr/>
        </p:nvSpPr>
        <p:spPr>
          <a:xfrm>
            <a:off x="179280" y="81612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 доступност производа који садрже биоактивне састој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иљног пор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употребе (истовремена непријављена употреба 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ијететским суплемент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 rot="20111400">
            <a:off x="582480" y="2738520"/>
            <a:ext cx="78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8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24"/>
          <p:cNvSpPr/>
          <p:nvPr/>
        </p:nvSpPr>
        <p:spPr>
          <a:xfrm>
            <a:off x="468360" y="2205000"/>
            <a:ext cx="8136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битну улогу као материје које су неопходне за живот јер су круцијалне за одвијање важних физиолошких проц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8064720" cy="25304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ЕСЕНЦИЈАЛНЕ АМИНО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фенилала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вал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рео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риптофан, метионин, леу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изолеу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лиз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хисти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ла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спарагинска кисел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спараг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утамиска кисел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се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аргин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цисте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иц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 глутам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проли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mic Sans MS"/>
                        </a:rPr>
                        <a:t>тиро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3"/>
          <p:cNvSpPr/>
          <p:nvPr/>
        </p:nvSpPr>
        <p:spPr>
          <a:xfrm>
            <a:off x="539640" y="191628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а азота између ткива (орнитин, цитру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инсулина (арги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а процеса синтезе ткивних протеина (ли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рансмисија (глутам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ација протока калцијума (тау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глукозе из ткивних протеина (аланин, глутам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минокиселине разгранатог ланца – леуцин, изолеуцин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а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4"/>
          <p:cNvSpPr/>
          <p:nvPr/>
        </p:nvSpPr>
        <p:spPr>
          <a:xfrm>
            <a:off x="468360" y="1916280"/>
            <a:ext cx="8351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ски низ, који може бити активиран како б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ествовао у неком физиолошком или патофизиолошко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оцесу, обично постоји као део неког протеина или већег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ептидног моле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пептиди (БП) могу бити активирани од стран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аме ћелије или других ћелија из истог или других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кспресију гена који учествују у модулациј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активности БП утичу бројни спољашњи и унутрашњ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фак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1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4"/>
          <p:cNvSpPr/>
          <p:nvPr/>
        </p:nvSpPr>
        <p:spPr>
          <a:xfrm>
            <a:off x="468360" y="1916280"/>
            <a:ext cx="8351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и пептиди из хуманог млека и млека друг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исара → крвни притисак, агрегацију тромбоцит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имулацију имуног система, везивање и транспор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ине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 показале да пептиди мле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делују на опиоидне рецепторе → расположење, начи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нашања, мотивација, реаговање на стрес и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2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4"/>
          <p:cNvSpPr/>
          <p:nvPr/>
        </p:nvSpPr>
        <p:spPr>
          <a:xfrm>
            <a:off x="468360" y="1916280"/>
            <a:ext cx="83516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к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иво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ља Меч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 организми који када се унесу у одговарајућој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личини (као део хране) могу имати повољан утицај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драв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отици конкуришу за исте рецепторе са патогени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бактеријама те се смањује ризик за кологенизациј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атогенима а у исто време ослобађају антимикроб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једињења (нпр. органске киселине, бактериоцини, слободн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сне киселине, водоник-перокс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1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1:26:47Z</dcterms:created>
  <dc:creator>Dusan</dc:creator>
  <dc:description/>
  <dc:language>en-US</dc:language>
  <cp:lastModifiedBy>user</cp:lastModifiedBy>
  <dcterms:modified xsi:type="dcterms:W3CDTF">2020-09-15T16:07:52Z</dcterms:modified>
  <cp:revision>547</cp:revision>
  <dc:subject/>
  <dc:title>Slide 1</dc:title>
</cp:coreProperties>
</file>